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zapbig0g.wav" ContentType="audio/x-wav"/>
  <Override PartName="/ppt/media/highchime.wav" ContentType="audio/x-wav"/>
  <Override PartName="/ppt/media/jetflyby2.wav" ContentType="audio/x-wav"/>
  <Override PartName="/ppt/media/caralarmoff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08E-B4F0-464E-B224-0141021D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21B-9C9B-42F4-9693-9F424DEB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627-73DB-4BCC-AEAC-0FA2BF0C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608-9C0C-445B-9395-68286C34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34C-2AA9-4DAA-AE25-50968523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34A-FD3A-4068-8AC7-2683C537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586-7ADA-4090-B06D-5D0C98C8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F84-6D8F-4399-A54D-CF1D102A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B63-3B38-4230-BAC0-D51AFE12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FFC-3F82-498E-B2E4-9267611F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FA7-6CA9-41C2-A934-11DAA1D0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ECF-2512-4BB9-9A9C-E428A63D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5C15-EE52-40AF-9546-6E09E64A1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audio" Target="../media/zapbig0g.wav"/><Relationship Id="rId4" Type="http://schemas.openxmlformats.org/officeDocument/2006/relationships/audio" Target="../media/highchime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caralarmoff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audio" Target="../media/caralarmoff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audio" Target="../media/caralarmoff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audio" Target="../media/caralarmoff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audio" Target="../media/caralarmoff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audio" Target="../media/caralarmoff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Use the bar graphs on test scores to answer the question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23840" y="923760"/>
          <a:ext cx="70963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3840" y="923760"/>
                    <a:ext cx="70963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17440" y="568944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ow many students received a score of 85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54640" y="5997600"/>
            <a:ext cx="361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urier New"/>
              </a:rPr>
              <a:t>4</a:t>
            </a:r>
            <a:endParaRPr b="1" lang="en-US" sz="4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6212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Use the bar graphs on test scores to answer the question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23840" y="923760"/>
          <a:ext cx="70963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3840" y="923760"/>
                    <a:ext cx="70963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17440" y="568944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What score was received by the most stude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42120" y="6012000"/>
            <a:ext cx="1085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urier New"/>
              </a:rPr>
              <a:t>100</a:t>
            </a:r>
            <a:endParaRPr b="1" lang="en-US" sz="4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76212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Use the bar graphs on test scores to answer the question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23840" y="923760"/>
          <a:ext cx="70963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3840" y="923760"/>
                    <a:ext cx="70963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17440" y="568944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ow many students received that sco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442120" y="6012000"/>
            <a:ext cx="361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urier New"/>
              </a:rPr>
              <a:t>5</a:t>
            </a:r>
            <a:endParaRPr b="1" lang="en-US" sz="4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212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Use the bar graphs on test scores to answer the question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3840" y="923760"/>
          <a:ext cx="70963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3840" y="923760"/>
                    <a:ext cx="70963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17440" y="568944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What score was received by the fewest stude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42120" y="6012000"/>
            <a:ext cx="7236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urier New"/>
              </a:rPr>
              <a:t>90</a:t>
            </a:r>
            <a:endParaRPr b="1" lang="en-US" sz="4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Use the bar graphs on test scores to answer the question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23840" y="923760"/>
          <a:ext cx="70963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3840" y="923760"/>
                    <a:ext cx="70963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17440" y="568944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ow many students received that sco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442120" y="6012000"/>
            <a:ext cx="361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urier New"/>
              </a:rPr>
              <a:t>3</a:t>
            </a:r>
            <a:endParaRPr b="1" lang="en-US" sz="4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6212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Use the bar graphs on test scores to answer the question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23840" y="923760"/>
          <a:ext cx="70963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3840" y="923760"/>
                    <a:ext cx="70963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17440" y="56894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ow many more students received 100 than 9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630760" y="5981760"/>
            <a:ext cx="3621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urier New"/>
              </a:rPr>
              <a:t>2</a:t>
            </a:r>
            <a:endParaRPr b="1" lang="en-US" sz="4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3352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61, 6 – 8 #1 – 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5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 Way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1-23T19:26:54Z</dcterms:modified>
  <cp:revision>82</cp:revision>
  <dc:subject/>
  <dc:title>Slide 1</dc:title>
</cp:coreProperties>
</file>